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D7B-1E4B-41F7-BFDC-7B869050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BD8-D894-47A5-83D6-B9C21CA6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3AE-A104-4F57-8786-88FE8095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0E5-1650-43AC-8999-51D8CDAF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6C6-4FD4-423E-89CD-CA115AD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AC2-34D4-42E2-851D-8EC907B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BFD-4711-49D5-9614-A5413B1B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4C8-3578-4BAE-92F0-E6A7DB8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308-E96F-4249-AFF1-0D136E5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4BC-2167-4239-AA22-19936E7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7B7-953B-4E91-921B-7910DC1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ECD-5701-4893-94EB-0FB795C7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5902-3B3A-42BF-A730-905189C7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eb.mit.edu/invent/iow/perkin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cc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25780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yn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90720"/>
            <a:ext cx="64771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70e47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ol-A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70e47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erkins"/>
          <p:cNvPicPr/>
          <p:nvPr/>
        </p:nvPicPr>
        <p:blipFill>
          <a:blip r:embed="rId1"/>
          <a:srcRect l="0" t="0" r="37879" b="1736"/>
          <a:stretch/>
        </p:blipFill>
        <p:spPr>
          <a:xfrm>
            <a:off x="0" y="0"/>
            <a:ext cx="4952880" cy="241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Perkins"/>
          <p:cNvPicPr/>
          <p:nvPr/>
        </p:nvPicPr>
        <p:blipFill>
          <a:blip r:embed="rId2"/>
          <a:srcRect l="62646" t="-10453" r="0" b="0"/>
          <a:stretch/>
        </p:blipFill>
        <p:spPr>
          <a:xfrm>
            <a:off x="5257800" y="3314880"/>
            <a:ext cx="388620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0800000">
            <a:off x="228240" y="426672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26708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k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-28-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Kool-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l-Aid used to be spelled Kool Ade later then it got changed to Kool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iginal flavors were strawberry, cherry, lemon-lime, grape, orange, and Raspb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1 Kool-Aid was a popular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ool-Aid packets were 10 cents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l-Aid was a successful business and stil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e473"/>
            </a:gs>
            <a:gs pos="50000">
              <a:srgbClr val="009999"/>
            </a:gs>
            <a:gs pos="100000">
              <a:srgbClr val="70e4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was born in Nebras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rried his childhood lover Kitty and continued on with his Kool-Ai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Chicago to start his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1 Perkins dropped his other businesses and concentrated more on Kool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rged with Kraft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5:50Z</dcterms:created>
  <dc:creator>install</dc:creator>
  <dc:description/>
  <dc:language>en-US</dc:language>
  <cp:lastModifiedBy>install</cp:lastModifiedBy>
  <dcterms:modified xsi:type="dcterms:W3CDTF">2011-03-11T18:31:55Z</dcterms:modified>
  <cp:revision>12</cp:revision>
  <dc:subject/>
  <dc:title>Slide 1</dc:title>
</cp:coreProperties>
</file>